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A7D0-C4DE-4B78-8387-D3E35D91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CF3-9741-4DE5-83F8-FD9E5B7F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65A-47F8-4B55-AC64-129D29A6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61C-6850-420F-B91F-0A811BDA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99B2-C0F7-42EF-827E-2C764837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72AE-8ABB-4EE1-8954-3CE217CC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CB80-E053-4F97-8570-063F85CD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4F72-D5BE-4E58-AB27-24BD44E1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F131-0918-4054-B13A-FEED7A41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462B-7271-4499-839F-BB077848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D2AF-35F5-4CD9-A542-AEC66985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53AF-70B5-4ADC-B6C8-61E0ED6D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BE35-8FFF-4044-9EB5-3DE622AE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8020-2A28-4341-8AF0-3148AA8F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7252-0DBD-481B-B22E-06456045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F1EC-0CCC-4CEF-BFD8-B76EC03D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6587-19CE-45E3-90B2-621A9DB8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359-AEEE-4630-BC18-51D720C6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952-31A6-4DED-9FA4-705E0459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CF7-1D8A-481F-876E-8AF1F6CD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A287-8183-4888-BD25-DE49FA88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6DB-2575-49BD-80CA-78CA7004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0A2-1A82-4D71-A5B0-7E4794EB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6BA-09B7-47CD-BFE5-901BFB09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C9B6-8543-4081-8C96-A00CE3A005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92CA-5ABE-4764-98DE-FC4A5B88B6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entar za demokratiju i ljudska prava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(CEDEM)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00160" y="4071600"/>
            <a:ext cx="578664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Tahoma"/>
              </a:rPr>
              <a:t>Podgorica</a:t>
            </a:r>
            <a:r>
              <a:rPr b="0" lang="sr-Latn-CS" sz="2800" spc="-1" strike="noStrike">
                <a:solidFill>
                  <a:srgbClr val="262673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262673"/>
                </a:solidFill>
                <a:latin typeface="Tahoma"/>
              </a:rPr>
              <a:t>28. oktobar, 2015.</a:t>
            </a:r>
            <a:r>
              <a:rPr b="0" lang="sr-Latn-CS" sz="28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Logo CEDEM eng"/>
          <p:cNvPicPr/>
          <p:nvPr/>
        </p:nvPicPr>
        <p:blipFill>
          <a:blip r:embed="rId1"/>
          <a:stretch/>
        </p:blipFill>
        <p:spPr>
          <a:xfrm>
            <a:off x="3635280" y="210960"/>
            <a:ext cx="201636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932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333399"/>
                </a:solidFill>
                <a:latin typeface="comic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rogramski ciljevi CEDEM-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7627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irmisanje vrijednosti pluralističkog, demokratskog i otvorenog društv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učavanje stanja demokratije i ljudskih prava u Crnoj Gor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traživanje dometa i posljedica tranzicije sistema u Crnoj Gor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prijeđivanje znanja u oblasti demokratske politike i društvenog sistema zasnovanog na ljudskim pravima i slobodam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prinos evroatlantskim integracijama Crne Go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rojekti CEDEM-a u oblasti migracija i azil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a puta za viznu liberalizaciju, partneri: PASOS, 2010.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racije u oblasti visokog obrazovanja</a:t>
            </a:r>
            <a:r>
              <a:rPr b="0" lang="sr-Latn-RS" sz="20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zvijanje politika „privlačenja“ stručnjaka na Zapadnom Balkanu</a:t>
            </a:r>
            <a:r>
              <a:rPr b="0" lang="sr-Latn-R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ner: Grupa 484, 2011.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drška razvoju crnogorskog sistema regulisanja azila i nelegalnih migracija, partner: Građanska alijansa, donator: Ambasada SR Njemačke u Crnoj Gori, 2013.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at: Izgradnja kapaciteta za jačanje crnogorskog sistema regulisanja azila i iregularnih migracija, </a:t>
            </a:r>
            <a:r>
              <a:rPr b="0" lang="sr-Latn-RS" sz="2000" spc="-1" strike="noStrike">
                <a:solidFill>
                  <a:srgbClr val="000000"/>
                </a:solidFill>
                <a:latin typeface="Tahoma"/>
              </a:rPr>
              <a:t>partner: DCR, donator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basada Kraljevine Holandije u Beogradu, 2014/201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prema nacrta Studije izvodljivosti za jačanje kapaciteta za smještaj, zaštitu i rehabilitaciju maloljetnih migranata bez pratnje i drugih ranjivih grupa migranata, MRSS, jun 201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iljevi </a:t>
            </a:r>
            <a:r>
              <a:rPr b="0" lang="sr-Latn-RS" sz="2800" spc="-1" strike="noStrike">
                <a:solidFill>
                  <a:srgbClr val="333399"/>
                </a:solidFill>
                <a:latin typeface="Tahoma"/>
              </a:rPr>
              <a:t>projekta: </a:t>
            </a:r>
            <a:br>
              <a:rPr sz="28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Izgradnja kapaciteta za jačanje crnogorskog sistema regulisanja azila i iregularnih migracij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2600" y="18446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Podrška reformi sistema </a:t>
            </a:r>
            <a:r>
              <a:rPr b="0" lang="vi-VN" sz="2800" spc="-1" strike="noStrike">
                <a:solidFill>
                  <a:srgbClr val="000000"/>
                </a:solidFill>
                <a:latin typeface="Tahoma"/>
              </a:rPr>
              <a:t>azila i 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upravljanja </a:t>
            </a:r>
            <a:r>
              <a:rPr b="0" lang="vi-VN" sz="2800" spc="-1" strike="noStrike">
                <a:solidFill>
                  <a:srgbClr val="000000"/>
                </a:solidFill>
                <a:latin typeface="Tahoma"/>
              </a:rPr>
              <a:t>migracija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ma, u</a:t>
            </a:r>
            <a:r>
              <a:rPr b="0" lang="vi-VN" sz="2800" spc="-1" strike="noStrike">
                <a:solidFill>
                  <a:srgbClr val="000000"/>
                </a:solidFill>
                <a:latin typeface="Tahoma"/>
              </a:rPr>
              <a:t> skladu s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vi-VN" sz="2800" spc="-1" strike="noStrike">
                <a:solidFill>
                  <a:srgbClr val="000000"/>
                </a:solidFill>
                <a:latin typeface="Tahoma"/>
              </a:rPr>
              <a:t> međunarodnim i EU standardima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aštita ljudskih prava tražilaca azila, 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izbjeglic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 i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regularnih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granat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Osnažen dijalog između nevladinog sektora i </a:t>
            </a:r>
            <a:r>
              <a:rPr b="0" lang="vi-VN" sz="2800" spc="-1" strike="noStrike">
                <a:solidFill>
                  <a:srgbClr val="000000"/>
                </a:solidFill>
                <a:latin typeface="Tahoma"/>
              </a:rPr>
              <a:t>Vlad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vi-V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u </a:t>
            </a:r>
            <a:r>
              <a:rPr b="0" lang="vi-VN" sz="2800" spc="-1" strike="noStrike">
                <a:solidFill>
                  <a:srgbClr val="000000"/>
                </a:solidFill>
                <a:latin typeface="Tahoma"/>
              </a:rPr>
              <a:t>kreiranju i pr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imjeni politika azila i migracija u okviru</a:t>
            </a:r>
            <a:r>
              <a:rPr b="0" lang="vi-V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procesa </a:t>
            </a:r>
            <a:r>
              <a:rPr b="0" lang="vi-VN" sz="2800" spc="-1" strike="noStrike">
                <a:solidFill>
                  <a:srgbClr val="000000"/>
                </a:solidFill>
                <a:latin typeface="Tahoma"/>
              </a:rPr>
              <a:t>pristupanja EU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iljne grupe/direktni korisnic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žioci azila, 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izbjeglice i iregularn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gra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stavnici Ministarstva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 unutrašnjih poslova – Direkcije za azil i Sektora granične policije, Ministarstv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ada i socijalnog staranja, 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Upra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za zbrinjavanje izbjeglica, 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Centra za tražioce azil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ji i nevladine organizaci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kalne zajedn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sr-Latn-RS" sz="32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zultati projek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20500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Poboljšano učešće NVO u pripremi novog zakona o azilu, kroz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članstvo u Radnoj grupi, 2015 (CEDEM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sane preporuke za unaprijeđenje zakonodavnog okvira i prakse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Ojačani kapaciteti ključnih akter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 oblasti azila i i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regularni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gracij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jačana svijest opšte javnosti o značaju zaštite prava azilanata i migran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333399"/>
                </a:solidFill>
                <a:latin typeface="Tahoma"/>
              </a:rPr>
              <a:t>Realizovane p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ojektne aktivnost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ahoma"/>
              </a:rPr>
              <a:t>Podrška izradi analize uticaja novog zakona o azilu, kao i komentara na nacrt zakon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ahoma"/>
              </a:rPr>
              <a:t>Formiranje NVO Koalicije u poglavlju 24 (azil i migracij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ninzi za predstavnike državnih organa </a:t>
            </a:r>
            <a:r>
              <a:rPr b="0" lang="sr-Latn-RS" sz="2000" spc="-1" strike="noStrike">
                <a:solidFill>
                  <a:srgbClr val="000000"/>
                </a:solidFill>
                <a:latin typeface="Tahoma"/>
              </a:rPr>
              <a:t>o azilnim standardima i prak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a posebnim fokusom na zaštit</a:t>
            </a:r>
            <a:r>
              <a:rPr b="0" lang="sr-Latn-R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ahoma"/>
              </a:rPr>
              <a:t>prava ugroženih kategorija (djeca, maloljetnici bez pratnje, samohrane majke, OSI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ahoma"/>
              </a:rPr>
              <a:t>Studijska posjeta Holandiji za predstavnike MUP-a i NVO Koalicij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ahoma"/>
              </a:rPr>
              <a:t>Priprema video spota o tematici azil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ahoma"/>
              </a:rPr>
              <a:t>Priprema i distrubucija lifleta namijenjenih tražiocima azil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ahoma"/>
              </a:rPr>
              <a:t>Izrada Vodiča o postupanju prema migrantima za predstavnike državnih institucij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ahoma"/>
              </a:rPr>
              <a:t>Završn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konferencija povodom predstavljanja </a:t>
            </a:r>
            <a:r>
              <a:rPr b="0" lang="sr-Latn-RS" sz="2000" spc="-1" strike="noStrike">
                <a:solidFill>
                  <a:srgbClr val="000000"/>
                </a:solidFill>
                <a:latin typeface="Tahoma"/>
              </a:rPr>
              <a:t>rezultata projek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VALA NA PAŽNJI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85880" y="1999800"/>
            <a:ext cx="77724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ahoma"/>
              </a:rPr>
              <a:t>Centar za demokratiju i ljudska prava (CED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ahoma"/>
              </a:rPr>
              <a:t>www.cedem.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ahoma"/>
              </a:rPr>
              <a:t>info@cedem.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2:11:17Z</dcterms:created>
  <dc:creator>IDK</dc:creator>
  <dc:description/>
  <dc:language>en-US</dc:language>
  <cp:lastModifiedBy>Marija</cp:lastModifiedBy>
  <dcterms:modified xsi:type="dcterms:W3CDTF">2015-10-27T12:41:16Z</dcterms:modified>
  <cp:revision>128</cp:revision>
  <dc:subject/>
  <dc:title>Centar za prava djeteta  Crne Gore</dc:title>
</cp:coreProperties>
</file>